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B55-5712-4054-9B94-D4DF3A5C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416-A5E2-4DC7-A45B-2128086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7C8-0215-4C79-9F2A-176EC297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B95-65D9-47E4-AE62-4E8FE2F5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5AD-68CC-46BB-9DED-E527D64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451-C936-49F1-8586-1F108C8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155-2254-4E52-AA4C-5FC18A0A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848-71C6-464E-808A-BB083222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2B0-0A1D-464E-838A-A0FCD986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B06-ADEF-43EB-955D-06D9D22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092-34CE-4FCF-88F1-C1958F2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C49-F7F5-4697-AC7D-371C797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7928E-6239-4DE0-BAF7-F02E0DEB29B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airtrade.c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ázek 3" descr=""/>
          <p:cNvPicPr/>
          <p:nvPr/>
        </p:nvPicPr>
        <p:blipFill>
          <a:blip r:embed="rId1"/>
          <a:stretch/>
        </p:blipFill>
        <p:spPr>
          <a:xfrm>
            <a:off x="2016000" y="611280"/>
            <a:ext cx="5761080" cy="1258920"/>
          </a:xfrm>
          <a:prstGeom prst="rect">
            <a:avLst/>
          </a:prstGeom>
          <a:ln w="0">
            <a:noFill/>
          </a:ln>
        </p:spPr>
      </p:pic>
      <p:sp>
        <p:nvSpPr>
          <p:cNvPr id="124" name="TextovéPole 2"/>
          <p:cNvSpPr/>
          <p:nvPr/>
        </p:nvSpPr>
        <p:spPr>
          <a:xfrm>
            <a:off x="1363680" y="2895480"/>
            <a:ext cx="735336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Projekt CZ.1.07/1.1.10/03.0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576360" y="2087640"/>
            <a:ext cx="9359640" cy="5256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"/>
          <p:cNvSpPr/>
          <p:nvPr/>
        </p:nvSpPr>
        <p:spPr>
          <a:xfrm>
            <a:off x="741240" y="555480"/>
            <a:ext cx="860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akta a čísla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,5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lionu fairtradových pěstitelů a řemesl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ilionů Kč obrat fairtradových výrobků v ČR v r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ilionů eur dostali v r. 2012 certifikovaní pěstitelé na sociální prém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45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ěst na světě podporuje fair trade. 6 z nich v Č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ÍMAVOST: Ve Velké Británii nese každý třetí prodaný banán známku Fairtrade a ve Švýcarsku je to dokonce každý druh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ČASTO KLADENÉ OTÁZKY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8280" y="205884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je fair trade potřeba? Fair trade vychází z velmi jednoduché myšlenky: lidé si za svou práci zaslouží dostat dobře a spravedlivě zaplaceno.Zní to jednoduše, ale mnoho pěstitelů kávy, čaje, kakaa nebo tropického ovoce nedostane za své zboží ani tolik, kolik potřebují na jejich vypěstování. Důvodů je několik - mimo jiné jde o chování nadnárodních firem, nespravedlivé nastavení mezinárodního obchodu nebo o nedostatek vzdělání a zdrojů na straně pěstite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ČASTO KLADENÉ OTÁZKY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přesně jdou moje peníze, když si koupím fairtradovou čokolá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chvíli vašeho nákupu už má pěstitel kakaa dávno zaplaceno a možná taky prostředky za svoje kakaové boby dávno utratil. Pěstitelé a řemeslníci dostávají svou spravedlivou odměnu vždy ve chvíli, kdy odevzdají své produkty družstvu, jehož jsou členem a které s nimi obchoduje. Někdy mohou dokonce dostat své peníze předem, stejně jako družstvo - to má u certifikace Fairtrade nárok na 60% předfinancování od svých obchodních partne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ČASTO KLADENÉ OTÁZKY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o zajišťuje kontrolu v systému certifikace Fairt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nesmírně důležité, aby byly certifikační systémy transparentní a nezávislé. Proto v certifikaci Fairtrade jedna strana (organizace Fairtrade International) udává pravidla a jiná strana (společnost FLO-Cert) kontroluje jejich dodržování. Činnost Fairtrade International je financována z grantů a poplatků za používání ochranné známky Fairtrade, FLO-Cert má finance z poplatků za kontrolní audity - ty platí fairtradová družstva, dovozci a zpracovatelé zboží. Kontroly jsou pravidelné, nahlášené předem a zároveň namátkové, nenahláše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ČASTO KLADENÉ OTÁZKY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fair trade stejné jako B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. Ochrana životního prostředí a udržitelný rozvoj je jedním z důležitých principů fair trade, ale nemá tak přísná pravidla, jako ekologické zemědělství. Certifikace Fairtrade má např. seznam povolených chemických látek, které je možné použít v případě problémů se škůdci nebo nemoc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76360" y="2087640"/>
            <a:ext cx="935964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Zdroje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80" bIns="0" anchor="t">
            <a:normAutofit/>
          </a:bodyPr>
          <a:p>
            <a:pPr marL="343080"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fairtrade.cz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62040" y="3303720"/>
            <a:ext cx="32986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ttp://www.fairtrade-cesko.c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581280" y="2101680"/>
            <a:ext cx="2925720" cy="4762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AIR TRADE</a:t>
            </a:r>
            <a:br>
              <a:rPr sz="2400"/>
            </a:b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(Dvořáková, Pinlová, Kalačová)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air trade</a:t>
            </a:r>
            <a:br>
              <a:rPr sz="2400"/>
            </a:b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= spravedlivý obchod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Fair trade je způsob obchodu. Lidem ze zemí Afriky, Asie a Latinské Ameriky dává možnost uživit se vlastní prací za důstojných podmínek. Dostávají spravedlivě zaplaceno, pěstují s ohledem na životní prostředí a jejich děti můžou chodit do ško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Fair trade vznikl po 2. světové válce a nejdříve se obchodovalo hlavně s řemeslnými výrobky. Dnes se mnohem více prodávají fairtradové zemědělské komodity: káva, kakao, cukr a čaj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408720" y="5072040"/>
            <a:ext cx="225576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Jaký je rozdíl mezi fair trade a Fairtrade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air tra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spravedlivého obchodování obecně, popř. hnutí lidí, kteří jej podpor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airtra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certifikace a ochranné známky, kterou vlastní organizace Fairtrade Interna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6235560" y="3828960"/>
            <a:ext cx="24768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Principy Fairtrade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621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SPRAVEDLIVÁ CE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Fairtradoví obchodníci a řemeslníci mají jistotu, že za své produkty dostanou spravedlivou výkupní cenu. Ta pokrývá náklady na produkci a i na důstojný život celé rodin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ROZVOJ KOMUNI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Certifikovaná fairtardová družstva dostávají tzv.sociální příplatek-prémii, kterou mohou investovat do rozvoje infrastruktury, vzdělání, zdravotní péče nebo do zvýšení produkc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OCHRANA PŘÍR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Fairtradoví pěstitelé se snaží  o dlouhodobě udržitelnou produkci a nepoužívají agrochemikálie preventivně, ale jen v případě,že se potýkají se škůdci nebo nemocemi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DLOUHODOBÉ OBCHODNÍ VZTAH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Fairtradový pěstitel ví, kolik peněz a kdy přesně dostan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DŮSTOJNÉ PRACOVNÍ 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) ROVNOPRÁV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Ženy a muži mají rovnocenný hlas. Stejně jako migranti nebo nadnárostní menšiny. Podporuje postavení žen ve společnosti a jejich ekonomickou nezávislos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) DEMOKRA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) ZÁKAZ DĚTSKÉ PRÁ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 Tedy ta, která poškozuje fyzický a psychický vývoj détěte. Stejné pravidlo platí i pro otrockou, nucenou práci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AIRTRADE PRODUCTS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03280" y="1914480"/>
            <a:ext cx="4200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7704000" y="4064040"/>
            <a:ext cx="2095560" cy="2847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4751280" y="4103640"/>
            <a:ext cx="2552760" cy="280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2232000" y="5040360"/>
            <a:ext cx="1800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air Trade product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720720" y="2101680"/>
            <a:ext cx="2232000" cy="481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Jak Fair Trade výrobky pozná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Fair Trade výrobky jsou označeny tímto symbo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Férovost“ výrobků garantuje certifikační a kontrolní organizace F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976320" y="3683160"/>
            <a:ext cx="1400040" cy="1428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7189920" y="2039760"/>
            <a:ext cx="2158920" cy="482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Velkou část sortimentu Fair Trade tvoří 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potraviny</a:t>
            </a:r>
            <a:r>
              <a:rPr b="0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: káva, čaj, kakao, čokoláda, koření, rýže, cukr, banány, sušené ovoce a podob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7353360" y="5010120"/>
            <a:ext cx="1790640" cy="1685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3456000" y="2101680"/>
            <a:ext cx="3240000" cy="468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Významnou součástí nabídky Fair Trade jsou 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umělecké a řemeslné výrobky</a:t>
            </a:r>
            <a:r>
              <a:rPr b="0" lang="cs-CZ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, například tašky, šátky, šperky, doplňky do domácnosti, koberce, hudební nástroje, hračky a oble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3622680" y="4567320"/>
            <a:ext cx="2857320" cy="2057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Podíl produktů Fairtrade v České republice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43120" y="2101680"/>
            <a:ext cx="66056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Systém certifikace: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62000" y="2101680"/>
            <a:ext cx="7966080" cy="476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9:50:40Z</dcterms:created>
  <dc:creator/>
  <dc:description/>
  <dc:language>en-US</dc:language>
  <cp:lastModifiedBy>kavrik</cp:lastModifiedBy>
  <dcterms:modified xsi:type="dcterms:W3CDTF">2014-12-09T12:44:10Z</dcterms:modified>
  <cp:revision>4</cp:revision>
  <dc:subject/>
  <dc:title>Prezentace aplikace PowerPoint</dc:title>
</cp:coreProperties>
</file>