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5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1FE1-8C3D-4C03-B29E-E719DD8E18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2ED6-D31B-4B01-8F43-D381D6907AB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C5EB-ED17-42D7-9B74-79B5804001C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7924-A069-4BFF-BA80-020EB3324E7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90B2-1163-4A4D-841A-DB24156BE90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A01-88AE-4906-9479-07617E08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2EA-4025-4F45-986B-3974BF76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FC3E1-7E2E-4B72-9A40-81B443AB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06E7A-54AD-4A23-9606-E518AA66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28995-972B-4255-BC7E-1F7F7C3F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BB3BD-F814-4DA7-B37E-5DEC3CEE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247BF-F1EF-4C74-9B49-7EE75E21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5BDAA-23FA-4C54-9020-477213C9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124CA-F127-451F-A0B0-0DA6C5AC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F7414-32CD-4FA1-86A5-227F50D0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6B36E-59FF-4D43-800E-6853094C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B8DB5-47A7-49AC-B3D7-DDD17FD6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209-9AF3-439C-813D-F914A739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43366-14E2-42D1-B14E-D3FDB1E4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3F74E-6369-4D3B-B71F-585C444A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6E6C4-883E-453C-A0D7-17C42AE8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B06E2-1FCD-4CE3-9E93-EAAA434B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6754F-FA5B-4F3C-B2C8-E0F13270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6849E-9A35-499F-9EDE-3493C83C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A80EE-4965-4D4C-A7A5-F3ACC2C5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2BF70-ADEA-4671-927B-9AD47504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01AF5-4B2E-49D3-ADEE-05D53BA8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12267-EF2E-470F-9B50-E9856FB7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345-E51A-4B22-A852-17AF8508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7FE40-B4FE-48D4-82E2-EE4D527A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64B77-3B13-4371-ADA0-AE7CFAA0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D4740-2546-4080-AC82-CAD06C05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2D105-D486-4EAC-BC57-78C1F20A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5C377-9A55-46DF-A7AE-F1882657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9508C-83E4-4909-BC3D-0A46AF68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E033A-4836-43AF-AE16-1C497847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BED88-FE37-44E5-BF07-1DA5AF9F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A5A65-9101-4452-AB34-E268CA89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E29D4-8AC3-48C3-84E4-66252773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F70E-1B14-484A-8A7D-9084F3C2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E038F-CB35-4790-A682-3EA896B3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DDB1F-6AC6-4237-97DF-02006FD9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C9BE1-0290-4528-AE5E-9FFC1030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BF630-2406-4998-A3FD-111D24C3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7F3B0-A0CF-4EC2-93F0-C6DF597E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68F45-B10C-45D5-A376-9922DF84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EC913-014E-4514-AFEB-DF8A189D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B3BA9-50F0-4A0F-8D44-8EBC0835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AF4E4-3A82-4B9A-A9D7-EE3AE725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6764D-2E88-415A-B714-3F7EE93C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C778-F2EA-4B3B-A15A-1F79BA70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9334A-3BD3-46A0-AF60-90B7B498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AD7E9-8847-48D4-9CC8-B94F1581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52B83-CF00-437A-8934-CF75B8DA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7724B-A9E9-4C7D-B9CC-28A370D0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291C7-3396-41B2-857F-6769100B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A0739-6F9D-4E23-901C-91A6CE81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7D661-9F72-4250-889A-7985F570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FC376-D477-4ED8-AB16-233E7FBE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31871-B7C6-490E-9D53-B493BEEC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A321D-B130-46E8-9E10-FF66B0F4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9ACE-0870-48C3-B3D4-A497D783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185E8-BD17-4C1A-8F5E-9CEBF257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41597-B4CF-4180-911D-B904CCA7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C363A-F66F-4F71-A989-DA208F07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23A87-73D8-4E7F-B79F-F0D7A801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DF606-DE7A-465D-BAAE-03615423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28D7E-27D6-4745-833D-EE6253F3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6EB78-3774-47B7-AAAE-1655DB5A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6A5EE-9A6E-4D57-BC23-07332F05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551B6-319E-40B8-84AB-EED9C3FE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E1BEC-B492-47A3-A935-5F0B3867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59FF-327E-4DA6-834F-4E2BE1ED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51D50-2719-4DCB-ABC0-EE8A5114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520DA-C428-445D-95C8-2248AF55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B1F3D-084B-445A-8EDA-46B2B5B9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D3FA5-FD4B-4E21-8841-C6969562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383CA-99B4-4FF1-93DC-8B5B4B56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A1CAC-D11D-4A69-9577-C9199A6E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E4594-5F59-4675-A3EA-DB753F65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58F98-50B0-4F8A-A0BB-282AA0D4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64F9C-7373-498A-933A-23FE1992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B035-FA87-48C7-8D42-BAC2E9CB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FABA-A0B4-428E-99C5-1C80EBBD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4D6D-4A9C-49C3-BD5B-CD0326AB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C10-304A-448C-8DAD-0A6F089B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3ECB-1D99-4176-9783-4A9A010D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95BE-153A-49FA-BAA2-736CBE9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A09C-FE4C-4F69-8B37-45F5EB0C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45E3-1B51-46AB-91B9-BA232A37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1B57-06FB-43DB-8A16-ECED482A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18E37-B382-4C79-A9AA-07C9080B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C6F56-1DE6-435D-859A-8E6FAC3E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2C902-566A-4CCB-A815-427CC7FF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78C68-B030-494E-91B6-886E5B0C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2F9D8-68D9-4F97-AEBD-89E65E54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787-9857-4933-A803-FF57969F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538BF-CD59-4380-BA3B-EDF8B08A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E7C55-1279-46EF-91D0-4180C378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8AE16-8EBE-4D3E-B446-3F75F446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68254-ED80-4831-B446-7D85BFC5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643B0-E547-435A-AB42-78680F45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296F4-CB84-43F5-8720-7F55EBC5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C613B-E67C-4BB5-9B42-99630D68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65C7-5423-4ED1-8663-E17C340F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611F9-BBE0-4C15-8BA2-625E3D58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7AD15-C7BA-4AA0-9E43-A2333432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223-310A-4481-961B-A450DA06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232BE-E162-4853-B36F-C7F5E7C9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F73B-3CE5-429F-BF51-785BC1E2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B28BE-6894-4C77-8CF8-15D70D25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AA00-6162-400E-822B-7888D316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74353-8DF2-47BA-9A9C-1FAE3BAC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7E45-9611-4506-807F-CAB0193E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C67AD-3A7F-4093-A534-389DD25B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6BEB2-725C-4FAF-A9A0-7833FFD3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6442-9428-4BA6-83C5-100DD8C1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FC25E-487C-4D60-9419-3C14F6FA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7D4-831F-4714-9A63-C68150D1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7C0B4-59EC-44DE-A951-D20F0A83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AF69-212E-473C-99E7-BD09E15F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877CC-A94C-4854-AC90-5E76028C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9BED9-B240-4ED3-91D0-9023BA9A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740F1-5481-4FB7-86D4-F6CF5246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52C97-ADBD-47D0-BC95-0781FAE3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482A1-5C22-4A35-9A87-EFDBDB9E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B92A9-28D7-4FB9-B86F-6308AAE0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172E-1A44-479E-8943-432064C1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9A853-D4B9-454E-9A73-9E9E4FFE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F39-D1B0-48CE-A2FF-0F6D4CC8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5E9AA-37FD-4385-BE94-8A392EA2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AD496-4D2E-4700-AB20-641CC2F0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00BBB-DF09-40F6-B134-2AFCDE54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FBFFC-BE46-44B3-AD5D-F154795A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15FFE-453E-4753-80D1-F8C6CAF4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473D7-7E45-402C-BD5E-62B62DE5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8023-1646-4E9A-911C-448395E3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74465-BC96-4E8D-AFD2-D6689D96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AD8F-1259-4054-9080-0F27365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DAACE-89C1-4E9C-A731-037211C1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F7E-CCA1-4C2D-A449-60489F03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45BEE-5A9C-4734-9004-11C190D5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5744-9958-4221-9F22-1D5BC4C2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CB778-968B-4D60-94F1-5F3EB215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D9A32-FF79-48CF-AECF-489E4F48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6CF1E-E972-41D5-AA4A-E49AF8DC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5D6FC-025D-4A8F-97C7-9700EBEA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F8760-62C1-4AB1-A10E-2B7BEA6E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4F9CD-1F6B-453F-8B08-F0EC88A1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F9C95-DDE2-4FF6-9BE0-6F178AEE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6DC99-0E5F-4AA4-BD5F-70F0B510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7DF-993C-482F-9102-420C667E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174C3-E9DF-4307-A6D1-87EBB021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6FAED-1710-453F-B2C9-21665F8F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A2946-954C-46B0-B02C-514F0FB0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BB3DF-467D-428F-8C7B-7CAB7EB6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A14B1-4338-4AFE-B078-67991546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6404F-CC29-4671-879C-8C8C68F2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14D1F-B5B6-4FB7-ACAD-97482975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71B52-C429-426A-ABCD-0EB02397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A2743-57AB-4B41-AACB-8F81626B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AE025-6002-4BDA-8022-2A882E5F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95B-9E54-4D7A-9C6C-E4E70D44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CFB9D-92B7-4E88-8C81-F39DC018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84F4C-4FEB-42EC-BE36-2F9BB1ED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1CA35-A21D-4150-8C74-FE636C6A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9C8A8-3F70-4904-B8A1-102D0CE5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103E1-1943-4C7B-8F63-19A2E618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3A53C-EB47-457E-997F-FD877BB2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C3929-6B75-45BA-8D79-791D48C3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6A6BE-9DC2-4E9A-A0C7-A850810A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D1D46-A906-40A6-B23F-99318C93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F3DE0-0F94-41A8-8EC6-D5A09727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7961-9A2B-4B51-939A-C4B3758D61D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3C33-0F75-4DE0-9EB4-2B733594AE04}" type="slidenum"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9239-B776-485D-A049-C50E485EC169}" type="slidenum"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DAF7-0E96-4687-8E13-6B7F50F0C4CF}" type="slidenum"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DA7A-2570-4226-B04F-AD042D046A86}" type="slidenum"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1CB8-23D2-46BA-A41C-6F3AA83A6B7F}" type="slidenum"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33D8-42DB-47D2-89EC-DC0F480660DB}" type="slidenum"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D3FC-E631-470F-8BD7-07EC216359A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47C4-6553-489D-B6FA-42AC3F9042AD}" type="slidenum"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5C73-413D-4B46-A304-DC1EF1E39E0A}" type="slidenum"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9A2E-9905-42CC-AA45-4C40AD2FF0E9}" type="slidenum"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FA00-BB42-4607-91D6-0E8D8F427A54}" type="slidenum"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4270-51CE-4C7F-B7A3-A13C270ADEBF}" type="slidenum"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DDB7-BD9C-4646-ADA0-34C13FA654B9}" type="slidenum"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volcano.si.edu/world/find_regions.cfm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Obrázek 3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759280" cy="1258920"/>
          </a:xfrm>
          <a:prstGeom prst="rect">
            <a:avLst/>
          </a:prstGeom>
          <a:ln w="0">
            <a:noFill/>
          </a:ln>
        </p:spPr>
      </p:pic>
      <p:sp>
        <p:nvSpPr>
          <p:cNvPr id="622" name="TextovéPole 2"/>
          <p:cNvSpPr/>
          <p:nvPr/>
        </p:nvSpPr>
        <p:spPr>
          <a:xfrm>
            <a:off x="895320" y="2708280"/>
            <a:ext cx="7353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Projekt CZ.1.07/1.1.10/03.000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Environmentální výchova ve školních úlohách, experimentech a exkurzí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Sopk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opka či také vulkán je porucha povrchu kudy se na povrch dostává směs roztavených hornin (magma) a sopečných plynů  z magmatického rezervoáru umístěného hloubě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Picture 5" descr="330px-MSH80_eruption_mount_st_helens_05-18-80"/>
          <p:cNvPicPr/>
          <p:nvPr/>
        </p:nvPicPr>
        <p:blipFill>
          <a:blip r:embed="rId1"/>
          <a:stretch/>
        </p:blipFill>
        <p:spPr>
          <a:xfrm>
            <a:off x="1042920" y="2565360"/>
            <a:ext cx="2732040" cy="41054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7" descr="ANd9GcSUKon7_Iq105F0NbpVl8usB7UFDO5ZJBSVvnhW4u5RTFaLSbTCfA"/>
          <p:cNvPicPr/>
          <p:nvPr/>
        </p:nvPicPr>
        <p:blipFill>
          <a:blip r:embed="rId2"/>
          <a:stretch/>
        </p:blipFill>
        <p:spPr>
          <a:xfrm>
            <a:off x="3995640" y="2781360"/>
            <a:ext cx="4905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Výsky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92360" y="1341360"/>
            <a:ext cx="5689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lavní vulkanickou zónou planety je (stejně jako u zemětřesení)pacifický "Kruh ohně" které je vázán na okraje tichomořské desky a desky Nasca. Zde se nachází 2/3 všech činných sopek Země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Zástupný symbol pro obsah 6" descr="http://www.sci.muni.cz/~herber/volcano/glob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997360"/>
            <a:ext cx="511200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Druhy sop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964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Hava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kutá láva vytéká klidně puklinami; 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znikají mocné pokryvy láv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rombo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ovulkány, vzniklé postupným vrstvením láva je vyvrhována plynnými explozemi jako struska;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ulc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ovulkán s centrálním kráterem; hustá láva ucpává přívody; 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lak plynů po čase proráží jícen, nastává výbuchpo explozi klidně vytéká lá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esuv </a:t>
            </a:r>
            <a:br>
              <a:rPr sz="1800"/>
            </a:b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(pliniovsk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 hluboko uloženého magmatického krbu se na povrch dostává láva silnými explozemi je vyvrhována do atmosféry  a dopadá zpět jako pop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t. Pel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lmi hustá láva ucpává přívod a vytváří vulkanický dóm; 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voří se žhavá mrač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Zástupný symbol pro obsah 3" descr="http://www.sci.muni.cz/~herber/volcano/eruptions.jpg"/>
          <p:cNvPicPr/>
          <p:nvPr/>
        </p:nvPicPr>
        <p:blipFill>
          <a:blip r:embed="rId1"/>
          <a:stretch/>
        </p:blipFill>
        <p:spPr>
          <a:xfrm>
            <a:off x="4932360" y="4653000"/>
            <a:ext cx="4030560" cy="2205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" descr="440px-Tectonic_plate_boundaries"/>
          <p:cNvPicPr/>
          <p:nvPr/>
        </p:nvPicPr>
        <p:blipFill>
          <a:blip r:embed="rId2"/>
          <a:stretch/>
        </p:blipFill>
        <p:spPr>
          <a:xfrm>
            <a:off x="539640" y="4740120"/>
            <a:ext cx="381636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Rozdělení sopk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ezi základní prvky patř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opečný kužel,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budovaný vulkanickými horninami,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kráter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místo erupční činnosti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opouch,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vodní kanál hlavního kráter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d povrchem musí být sopka spojena s 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agmatickým krbem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který představuje zdroj energie i materiálu pro sopečnou činn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agmatický krb je zpravidla umístěn v hloubce 30 - 100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Picture 6" descr="http://www.gweb.cz/soubory/clanky/geologie/jevy/sopky/sopka.gif"/>
          <p:cNvPicPr/>
          <p:nvPr/>
        </p:nvPicPr>
        <p:blipFill>
          <a:blip r:embed="rId1"/>
          <a:stretch/>
        </p:blipFill>
        <p:spPr>
          <a:xfrm>
            <a:off x="1476360" y="2924280"/>
            <a:ext cx="453564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Poj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magmatickém krbu se horniny nacházejí v tekutém stavu, který se nazývá 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agm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gma, které se dostává na zemský povrch, označujeme termínem 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lá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erupci mohou ale sopky vyvrhovat i množství pevných částic, které označujem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jako 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yroklas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yroklastický materiál, který opět dopadá na povrch nazýváme souhrnně pojmem 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ef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5" descr="ANd9GcRGQcvwV6-G35_oOaiCeopFYYgqzNvqW8BX_cqwPb5tlRbCbvfovQ"/>
          <p:cNvPicPr/>
          <p:nvPr/>
        </p:nvPicPr>
        <p:blipFill>
          <a:blip r:embed="rId1"/>
          <a:stretch/>
        </p:blipFill>
        <p:spPr>
          <a:xfrm>
            <a:off x="611280" y="3789360"/>
            <a:ext cx="4105080" cy="29005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6" descr="http://sopky.eu/wp-content/uploads/fotky-28-sopka-krakatoa.jpg"/>
          <p:cNvPicPr/>
          <p:nvPr/>
        </p:nvPicPr>
        <p:blipFill>
          <a:blip r:embed="rId2"/>
          <a:stretch/>
        </p:blipFill>
        <p:spPr>
          <a:xfrm>
            <a:off x="5003640" y="3243240"/>
            <a:ext cx="36147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Sopečné nebezpečí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imární hazard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zahrnují - 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lávové proud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výbuchy spojené se 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pádem tefr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- žhavá mračn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- exhalace plynných láte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vznik 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opečných zemětřesen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ekundární hazard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zahrnují - 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deformace povrch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-  ukládání vrstev pyroklasti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- sesuv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svahového materiálu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-  laharové proud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(tj. sopečné bahnotok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sunami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vznik 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kyselých dešťů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5" descr="ANd9GcRkJ47kOkDw69yuuGg9ZdET66p6A1w1uVcYl4evXHKOQ_1HsGHN9Q"/>
          <p:cNvPicPr/>
          <p:nvPr/>
        </p:nvPicPr>
        <p:blipFill>
          <a:blip r:embed="rId1"/>
          <a:stretch/>
        </p:blipFill>
        <p:spPr>
          <a:xfrm>
            <a:off x="395280" y="4349880"/>
            <a:ext cx="3816360" cy="25081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ANd9GcTyyTur0A8lzHxRR9vCwpEKmhRYsfEq17XArNUu4OHQh0d9Jn1vDg"/>
          <p:cNvPicPr/>
          <p:nvPr/>
        </p:nvPicPr>
        <p:blipFill>
          <a:blip r:embed="rId2"/>
          <a:stretch/>
        </p:blipFill>
        <p:spPr>
          <a:xfrm>
            <a:off x="4932360" y="4484520"/>
            <a:ext cx="3168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Rekord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jvětší činný kráter - sopka  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ilaue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průměr - 3,2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jvětší sopečný výbuch - sopka 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rakatoa -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datum výbuchu 23.srpna 188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jvyšší pevninská sopka - 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Ojos del Salad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výška - 6893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jvyšší sopka - 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Mauna Ke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výška - 10 205 m (6000 metrů pod hladinou moř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mladší česká sopka - 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Komorní hůrk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5" descr="ANd9GcSHf-gDWFYrl4lCezr21kQN8ywPqOH-uCUkaoNAR6ynVw3WXdM4aQ"/>
          <p:cNvPicPr/>
          <p:nvPr/>
        </p:nvPicPr>
        <p:blipFill>
          <a:blip r:embed="rId1"/>
          <a:stretch/>
        </p:blipFill>
        <p:spPr>
          <a:xfrm>
            <a:off x="4427640" y="3645000"/>
            <a:ext cx="4537080" cy="28540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7" descr="ANd9GcTmYXurx_OlSygjD9o4oMrl2fASkR13u0yNZneDJArlrbgcAX1Qug"/>
          <p:cNvPicPr/>
          <p:nvPr/>
        </p:nvPicPr>
        <p:blipFill>
          <a:blip r:embed="rId2"/>
          <a:stretch/>
        </p:blipFill>
        <p:spPr>
          <a:xfrm>
            <a:off x="324000" y="3933720"/>
            <a:ext cx="39607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 Light"/>
              </a:rPr>
              <a:t>SOPEČNÁ ČINOS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187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EMĚTŘES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3e3ff"/>
                </a:solidFill>
                <a:latin typeface="Arial"/>
              </a:rPr>
              <a:t>Zemětřesení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71240" y="1607760"/>
            <a:ext cx="403524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imes New Roman"/>
              </a:rPr>
              <a:t>Zemětřesení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je náhlý pohyb zemské kůry, vyvolaný uvolněním napětí – např. z neustálých pohybů zemských desek – podél zlomů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Studiu zemětřesení se věnuje geofyzika konkrétně její součást seismologi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Picture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198108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 txBox="1"/>
          <p:nvPr/>
        </p:nvSpPr>
        <p:spPr>
          <a:xfrm>
            <a:off x="5076720" y="414936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imes New Roman"/>
              </a:rPr>
              <a:t>Zemětřesení dělím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řítiv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sopečn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tektonick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9" descr="http://media.novinky.cz/131/261313-top_foto1-g254a.jpg?1306296001"/>
          <p:cNvPicPr/>
          <p:nvPr/>
        </p:nvPicPr>
        <p:blipFill>
          <a:blip r:embed="rId2"/>
          <a:stretch/>
        </p:blipFill>
        <p:spPr>
          <a:xfrm>
            <a:off x="468360" y="5013360"/>
            <a:ext cx="3311640" cy="17287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1" descr="http://nd04.jxs.cz/975/980/9fd6adfc58_74493725_o2.jpg"/>
          <p:cNvPicPr/>
          <p:nvPr/>
        </p:nvPicPr>
        <p:blipFill>
          <a:blip r:embed="rId3"/>
          <a:stretch/>
        </p:blipFill>
        <p:spPr>
          <a:xfrm>
            <a:off x="468360" y="3284640"/>
            <a:ext cx="3311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Výskyt,hypocentrum,epicentru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68000" y="2060640"/>
            <a:ext cx="391644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imes New Roman"/>
              </a:rPr>
              <a:t>Nejčastější výskyt zemětřesení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si 75 % tektonických zemětřesení se odehrává v pásmu ohraničující Pacifik v oblasti nazývané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Ohnivý kruh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932360" y="4076640"/>
            <a:ext cx="40356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Je to prostor konečných rozměrů, ve kterém vzniká zemětřesení. Jeho délkové rozměry dosahují až několika set kilometr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imes New Roman"/>
              </a:rPr>
              <a:t>Epicent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Je to kolmý průmět hypocentra na povrch Zem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5292720" y="400536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hnisko zemětřesení - hypocentr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9" descr="http://www.komenskeho66.cz/materialy/ocmu/images/image024.jpg"/>
          <p:cNvPicPr/>
          <p:nvPr/>
        </p:nvPicPr>
        <p:blipFill>
          <a:blip r:embed="rId1"/>
          <a:stretch/>
        </p:blipFill>
        <p:spPr>
          <a:xfrm>
            <a:off x="826920" y="3933720"/>
            <a:ext cx="3057840" cy="2270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1" descr="http://leccos.com/pics/pic/seismicita-_mapa.jpg"/>
          <p:cNvPicPr/>
          <p:nvPr/>
        </p:nvPicPr>
        <p:blipFill>
          <a:blip r:embed="rId2"/>
          <a:stretch/>
        </p:blipFill>
        <p:spPr>
          <a:xfrm>
            <a:off x="4427640" y="1243080"/>
            <a:ext cx="4356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Nebezpečí zemětřesení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2060640"/>
            <a:ext cx="40356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Primární hazardy-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souvisí přímo s otřesy povrch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Sekundární hazardy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- ztekucení půd, svahové pohyby a vlny tsunam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5135400" y="1600200"/>
            <a:ext cx="3810240" cy="23623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 txBox="1"/>
          <p:nvPr/>
        </p:nvSpPr>
        <p:spPr>
          <a:xfrm>
            <a:off x="4859280" y="4005360"/>
            <a:ext cx="428472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Energii uvolněnou zemětřesením, respektive část vyzářená v podobě seismických vln, zaznamenávají </a:t>
            </a: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seismometry a seismografy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Účinky na lidi a stavby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měří makroseismická stupnice intenzity a na </a:t>
            </a: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odhad velikosti uvolněné energie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se využívá magnitudo a seismické momen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Picture 8" descr="http://img.ahaonline.cz/static/old_aha/big/09_10_01/16_vznik.jpg"/>
          <p:cNvPicPr/>
          <p:nvPr/>
        </p:nvPicPr>
        <p:blipFill>
          <a:blip r:embed="rId2"/>
          <a:stretch/>
        </p:blipFill>
        <p:spPr>
          <a:xfrm>
            <a:off x="826920" y="3429000"/>
            <a:ext cx="39340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3e3ff"/>
                </a:solidFill>
                <a:latin typeface="Arial"/>
              </a:rPr>
              <a:t>Energie zemětřesení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69680" y="1680840"/>
            <a:ext cx="391644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imes New Roman"/>
              </a:rPr>
              <a:t>Makroseismické účinky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zemětřesení jsou účinky zemětřesení, které se projevují v přírodě, na budovách a lidech v určité lokalitě. Jsou definované za pomoci tzv. makroseismické intenzity, která je určována škálou makroseismické stupni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932000" y="1700280"/>
            <a:ext cx="391644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 současnosti se využívaj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dvanácti stupňové stupnice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CS, MM, EMS-98(Evropa), M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sedmistupňová stupnice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JMA (Japonsk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6"/>
          <p:cNvGraphicFramePr/>
          <p:nvPr/>
        </p:nvGraphicFramePr>
        <p:xfrm>
          <a:off x="5029200" y="3581280"/>
          <a:ext cx="358128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581280"/>
                    <a:ext cx="358128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7" name="Picture 8" descr="http://geologie.vsb.cz/jelinek/Nauka_o_Zemi_PTO_htm_files/518.jpg"/>
          <p:cNvPicPr/>
          <p:nvPr/>
        </p:nvPicPr>
        <p:blipFill>
          <a:blip r:embed="rId3"/>
          <a:stretch/>
        </p:blipFill>
        <p:spPr>
          <a:xfrm>
            <a:off x="395280" y="3500280"/>
            <a:ext cx="421956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Magnitu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035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efinování síly zemětřesení pomocí stupnic je poměrně subjektivní, záleží na pozorovateli a jeho odhadu rozsahu škod. Proto se zavádí objektivnější popis zemětřesení v podobě </a:t>
            </a: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magnituda,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které je funkcí dekadického logaritmu amplitudy vlny(tedy poměrně přesný výpoč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agnitudo zemětřesení je základem </a:t>
            </a: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Richterovy stupnice (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9 stupňů</a:t>
            </a: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. Tato škála v podstatě nemá horní ani dolní hranici. Za horní hranici můžeme považovat až mez soudržnosti horn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Picture 6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3809880" cy="24386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810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3e3ff"/>
                </a:solidFill>
                <a:latin typeface="Arial"/>
              </a:rPr>
              <a:t>Oblasti</a:t>
            </a: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003280" y="3715920"/>
            <a:ext cx="391644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lasti </a:t>
            </a: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seismické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jsou charakteristické vysokým počtem otřesů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lasti </a:t>
            </a: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peneseismické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postihují otřesy jen zříd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zemí, která jsou zcela ušetřena tohoto hazardu nazýváme jako </a:t>
            </a: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aseismická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1116000" y="13413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le průměrného výskytu událostí zemětřesení můžeme na zemském povrchu vyčlenit tři kategorie oblastí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5" name="Picture 8" descr="http://im.tiscali.cz/press/2012/12/10/49982-tsunami-ilustracni-foto-653x367.jpg"/>
          <p:cNvPicPr/>
          <p:nvPr/>
        </p:nvPicPr>
        <p:blipFill>
          <a:blip r:embed="rId1"/>
          <a:stretch/>
        </p:blipFill>
        <p:spPr>
          <a:xfrm>
            <a:off x="324000" y="2997360"/>
            <a:ext cx="4681440" cy="26319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0" descr="http://img.ihned.cz/attachment.php/260/35941260/iosuv58CF7GHLMOjk6Pcdefhqx0STwAV/Japonsko17.jpg"/>
          <p:cNvPicPr/>
          <p:nvPr/>
        </p:nvPicPr>
        <p:blipFill>
          <a:blip r:embed="rId2"/>
          <a:stretch/>
        </p:blipFill>
        <p:spPr>
          <a:xfrm>
            <a:off x="5364000" y="1197000"/>
            <a:ext cx="34560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                   </a:t>
            </a:r>
            <a:r>
              <a:rPr b="1" lang="cs-CZ" sz="4000" spc="-1" strike="noStrike">
                <a:solidFill>
                  <a:srgbClr val="e3e3ff"/>
                </a:solidFill>
                <a:latin typeface="Arial"/>
              </a:rPr>
              <a:t>„</a:t>
            </a:r>
            <a:r>
              <a:rPr b="1" lang="cs-CZ" sz="4000" spc="-1" strike="noStrike">
                <a:solidFill>
                  <a:srgbClr val="e3e3ff"/>
                </a:solidFill>
                <a:latin typeface="Arial"/>
              </a:rPr>
              <a:t>Rekordy“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658" name="Object 3"/>
          <p:cNvGraphicFramePr/>
          <p:nvPr/>
        </p:nvGraphicFramePr>
        <p:xfrm>
          <a:off x="900000" y="1341360"/>
          <a:ext cx="731520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731520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0" name="Picture 4" descr=""/>
          <p:cNvPicPr/>
          <p:nvPr/>
        </p:nvPicPr>
        <p:blipFill>
          <a:blip r:embed="rId3"/>
          <a:stretch/>
        </p:blipFill>
        <p:spPr>
          <a:xfrm>
            <a:off x="1403280" y="4437000"/>
            <a:ext cx="6477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20:01:25Z</dcterms:created>
  <dc:creator>Asus</dc:creator>
  <dc:description/>
  <dc:language>en-US</dc:language>
  <cp:lastModifiedBy>kavrik</cp:lastModifiedBy>
  <dcterms:modified xsi:type="dcterms:W3CDTF">2014-12-09T12:46:17Z</dcterms:modified>
  <cp:revision>17</cp:revision>
  <dc:subject/>
  <dc:title>Zemětřesení</dc:title>
</cp:coreProperties>
</file>