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392-2E97-4114-8700-7123A17132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752-EB89-45B6-9C99-9B704EAA83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C1D-2DD1-4BB9-A7BD-DE23796114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45B-C2F5-4252-AF52-292AD6F309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503F-5258-4033-ADFA-DB1405C26E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6DD-448F-4AF5-BFF2-D481AFF4DB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BFB-804E-4E8E-91C6-166E8B0278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9AB-4DE0-4117-B03A-964E8E72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C29-E9B0-4951-90E0-9A7B9BF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79A-D0B1-4759-A9ED-DF1BF2C2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732-E6E3-48D9-BB87-1AE7E943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E4E-B367-41B3-96E9-86FAAAEA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D7A6-6EC5-4AAF-90FA-870A2C1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A3C6-1DE2-4357-BAC2-EB045B2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75DD-CC27-419E-BFE7-7CF7E48C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0009-14BA-4038-A873-EF5F529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B921-6F18-4BF6-8A57-6A2D5335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77C1-2428-4C93-8E9A-8EA43A4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2C6-5B72-461F-B32D-AB804ED8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5CDC-B01C-41F3-BF94-04897E0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FAA0-DA46-4613-8316-A84C0F2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1E1-5D8F-411A-9FA2-ECF1826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01D2-60C8-45CA-9B47-F0A09A0A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E928-EBF5-4F84-A43C-BCF73228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5B0-BBDB-4E72-8899-FBF49F5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FFC-81EB-494A-81C9-F41D750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E60-1A65-4CA1-A68E-DB27CB2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C12-29A4-4F58-8803-346F91BA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67E-A4E5-4896-87E1-58AACA7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A19-6CB4-41B0-BF94-4F853D3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65-CCF3-44A1-9B13-301946A1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1920" y="-4680"/>
                <a:ext cx="980640" cy="68317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6520" y="1697400"/>
                <a:ext cx="9810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1920" y="1283400"/>
                <a:ext cx="9806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1920" y="147960"/>
                <a:ext cx="9806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6520" y="990000"/>
                <a:ext cx="98100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8320" y="680760"/>
                <a:ext cx="98100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0120" y="372600"/>
                <a:ext cx="99360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3720"/>
                <a:ext cx="98100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8240" y="3536640"/>
                <a:ext cx="9810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8600" y="2397960"/>
                <a:ext cx="98100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8240" y="3231000"/>
                <a:ext cx="98100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8240" y="2931480"/>
                <a:ext cx="98100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8960" y="2616480"/>
                <a:ext cx="99360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6200"/>
                <a:ext cx="98100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4000" y="4552200"/>
                <a:ext cx="9806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6080" y="5659560"/>
                <a:ext cx="9806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160" y="6189120"/>
                <a:ext cx="345960" cy="9824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4520"/>
                <a:ext cx="98100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360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0F34-7A77-4B9A-8B88-0C2F619B71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1760" y="-1575720"/>
                <a:ext cx="987480" cy="911556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3400" y="264780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8720" y="264708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81720"/>
                <a:ext cx="987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3080" y="274896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5520" y="269496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640" y="274212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480" y="2642040"/>
                <a:ext cx="9871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3916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800" y="2775240"/>
                <a:ext cx="987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9320" y="274104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8956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2760" y="273024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3360" y="264816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040" y="264708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120" y="277488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680" y="268956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720" y="272988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9A3-B3D5-4BDB-97EA-EE902A08F8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3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759280" cy="125892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895320" y="2133720"/>
            <a:ext cx="7353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jekt CZ.1.07/1.1.10/03.0008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AS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920" y="1341360"/>
            <a:ext cx="77724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-1080" bIns="-1080" anchor="t">
            <a:normAutofit/>
          </a:bodyPr>
          <a:p>
            <a:pPr lvl="2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Rasismus je přesvědšení, že některé rasy jsou ze své podstaty nadřazené a jiné podřaze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motná myšlenka, že civilizace musí chránit svou rasovou integritu hrála roli i v antickém Řecku a Římě. Například římský básník  Claudius  Claudiánus napsal, že z důvodu zachování civilizace nesmí dojít k sjednocení Římanů s africkými barbary, neboď by byla pošpiněna Římská koléb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ím z příkladů rasismu byla například Jihoafrická republika. Zde byl přímo zaveden politický systém tzv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APARTHEI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oddělení či odloučení). Obyvatelé negroidní rasy byli vyčleněny a odděleni od bílé rasy. Byli jim postaveny vlastní školy. Měli zákaz jezdit autobusy pro bílé, měli své vlastní obchody, jak s jídlem, tak se všemi potřebnými věcmi( s velmi omezeným výběrem), měli vlastní nemocnice. Tato politika trvala od roku 1948 až do roku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Zástupný symbol pro obsah 3" descr="445px-KKK.svg.png"/>
          <p:cNvPicPr/>
          <p:nvPr/>
        </p:nvPicPr>
        <p:blipFill>
          <a:blip r:embed="rId1"/>
          <a:stretch/>
        </p:blipFill>
        <p:spPr>
          <a:xfrm>
            <a:off x="4788000" y="2565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Obdélník 4"/>
          <p:cNvSpPr/>
          <p:nvPr/>
        </p:nvSpPr>
        <p:spPr>
          <a:xfrm>
            <a:off x="1042920" y="260280"/>
            <a:ext cx="761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mentálně je nejznámější rasovou organizací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-KLUX-KL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 řada bývalých i současných tajných, teroristických a militantních organizací, původně pocházejících z jižních států USA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to organizace prosazují nadvládu bílých, rasovou segregaci, antisemitismus, rasismus,antikatolicismus a odpor k nebělošskému přistěhovalectví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DROJ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.http://upload.wikimedia.org/wikipedia/commons/4/4c/Halle_Berry_2%2C_20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. http://images5.fanpop.com/image/photos/31900000/Fernando-Alonso-Uploaded-by-NikkiBarrett-fernando-alonso-31964257-450-35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. http://i.telegraph.co.uk/multimedia/archive/01783/PF-mika-hakkinen_1783280b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 http://www.expedice-afrika.cz/images/fotogalerie/obrazek/masajove-1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. http://21stoleti.cz/wp-content/uploads/San-people-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.http://www.mestovsetin.cz/VismoOnline_ActionScripts/Image.ashx?id_org=18676&amp;id_obrazky=567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. http://4.bp.blogspot.com/-g0BGJD1KzuU/TeCDAjKLFOI/AAAAAAAABC0/5TLfq1mHdv8/s1600/inuit-kleidung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8.http://us.123rf.com/400wm/400/400/lenor/lenor1108/lenor110800129/10269298-north-american-indians-sit-at-a-wigwa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2286000"/>
          <a:ext cx="3352680" cy="228600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72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Lidské      rasy</a:t>
                      </a:r>
                      <a:endParaRPr b="0" lang="en-US" sz="7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9" name="Picture 19" descr="nomad"/>
          <p:cNvPicPr/>
          <p:nvPr/>
        </p:nvPicPr>
        <p:blipFill>
          <a:blip r:embed="rId1"/>
          <a:stretch/>
        </p:blipFill>
        <p:spPr>
          <a:xfrm>
            <a:off x="0" y="0"/>
            <a:ext cx="3048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nova_guinea"/>
          <p:cNvPicPr/>
          <p:nvPr/>
        </p:nvPicPr>
        <p:blipFill>
          <a:blip r:embed="rId2"/>
          <a:stretch/>
        </p:blipFill>
        <p:spPr>
          <a:xfrm>
            <a:off x="0" y="3962520"/>
            <a:ext cx="2895480" cy="26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Dívka (People)"/>
          <p:cNvPicPr/>
          <p:nvPr/>
        </p:nvPicPr>
        <p:blipFill>
          <a:blip r:embed="rId3"/>
          <a:stretch/>
        </p:blipFill>
        <p:spPr>
          <a:xfrm>
            <a:off x="6399360" y="0"/>
            <a:ext cx="274464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lide_02"/>
          <p:cNvPicPr/>
          <p:nvPr/>
        </p:nvPicPr>
        <p:blipFill>
          <a:blip r:embed="rId4"/>
          <a:stretch/>
        </p:blipFill>
        <p:spPr>
          <a:xfrm>
            <a:off x="6400800" y="3429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lide--krovacka"/>
          <p:cNvPicPr/>
          <p:nvPr/>
        </p:nvPicPr>
        <p:blipFill>
          <a:blip r:embed="rId5"/>
          <a:stretch/>
        </p:blipFill>
        <p:spPr>
          <a:xfrm>
            <a:off x="3200400" y="0"/>
            <a:ext cx="2971800" cy="2381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8" descr="lide-huli-wigmen-dsc_4885"/>
          <p:cNvPicPr/>
          <p:nvPr/>
        </p:nvPicPr>
        <p:blipFill>
          <a:blip r:embed="rId6"/>
          <a:stretch/>
        </p:blipFill>
        <p:spPr>
          <a:xfrm>
            <a:off x="2971800" y="4611600"/>
            <a:ext cx="33526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Arial"/>
              </a:rPr>
              <a:t>Lidské ras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škeré lidstvo naší planety patří k jedinému živočišnému druhu - Homo Sap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ouhodobým vývojem, vlivem odlišného podnebí, stravy, způsobu života se lidstvo rozdělilo do skupin tzv. základn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tropologických typů - ras (plemen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á ra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je velká skupina lidí s podobnými, dědičně podmíněnými, antropologickými znaky - barva pleti, barva a tvar vlasů a očí, tvar lebky,nosů, rtů …-, kterými se jednotlivé rasy od sebe navzájem odlišují.</a:t>
            </a:r>
            <a:br>
              <a:rPr sz="2400"/>
            </a:b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3366"/>
                </a:solidFill>
                <a:latin typeface="Arial"/>
              </a:rPr>
              <a:t>Europoidní rasa</a:t>
            </a: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ílá, evropsko-asijská)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58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íce jsou příslušníci bílé rasy zastoupeni v Evropě, Severní Americe, JZ Asii, Austrálii, arabské Afric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každé rase můžeme při podrobnějším dělení vymezit typy. V Evropě se setkáváme např: se Středoevropský m typem, Mediteránním typem, Nordickým type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nité vlasy,světlá pokožka,krevní skupina převážně A,široká pá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Picture 7" descr="14_isifa"/>
          <p:cNvPicPr/>
          <p:nvPr/>
        </p:nvPicPr>
        <p:blipFill>
          <a:blip r:embed="rId1"/>
          <a:stretch/>
        </p:blipFill>
        <p:spPr>
          <a:xfrm>
            <a:off x="6553080" y="457200"/>
            <a:ext cx="205740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1042920" y="1413000"/>
            <a:ext cx="5639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ří asi 42% světové populace. V důsledků evropské expanze europoidní rasa osídlila všechny části svě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Mongoloidní rasa</a:t>
            </a:r>
            <a:br>
              <a:rPr sz="44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žlutá, asijsko-americká)</a:t>
            </a:r>
            <a:r>
              <a:rPr b="0" lang="cs-CZ" sz="4400" spc="-1" strike="noStrike">
                <a:solidFill>
                  <a:srgbClr val="646464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stupuje asi 20% lidstva. Nejvíce je zastoupena v Asii ale také např: v Severní Americe (indiáni), na Madagaskaru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vné vlasy,ploché čelo, široký obličej, vysedlé lícní kosti, velký trup, krátké nohy, úzká nosní štěrbina, krevní skupina převážně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plemena_lidska-_mongoloidni"/>
          <p:cNvPicPr/>
          <p:nvPr/>
        </p:nvPicPr>
        <p:blipFill>
          <a:blip r:embed="rId1"/>
          <a:stretch/>
        </p:blipFill>
        <p:spPr>
          <a:xfrm>
            <a:off x="6019920" y="1600200"/>
            <a:ext cx="2921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4360" y="620280"/>
            <a:ext cx="82612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rysem jsou ale šikmé oči, což způsobuje tzv. EPIKANTUS( zdvojení kůže na horním víčku oka). Není známo proč se tento znak v minulosti vyvinul, ale jedna z teori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 naklání k tom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 tyto lidé žili v minu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ísčitém prostředí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úžení očí bránilo o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achem a písk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rázek 3" descr="vietnamec.jpg"/>
          <p:cNvPicPr/>
          <p:nvPr/>
        </p:nvPicPr>
        <p:blipFill>
          <a:blip r:embed="rId1"/>
          <a:stretch/>
        </p:blipFill>
        <p:spPr>
          <a:xfrm>
            <a:off x="6084720" y="2708280"/>
            <a:ext cx="27352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Ekvatoriální rasa </a:t>
            </a:r>
            <a:br>
              <a:rPr sz="4400"/>
            </a:b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černá, negroidní, africko-australská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807732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ří asi 8% světové populace.                                                    Domovem černé rasy je střední a jižní Afrika, dále se s ní setkáváme v Austrálii a Oceánii - Nové Guin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drnaté vlasy,široký obličej, široký a málo vystouplý nos, malá brada, masité rty, úzká pánev, úzké dlouhé končetiny, tmavá pleť a oči, převažuje krevní skupin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work-kid"/>
          <p:cNvPicPr/>
          <p:nvPr/>
        </p:nvPicPr>
        <p:blipFill>
          <a:blip r:embed="rId1"/>
          <a:stretch/>
        </p:blipFill>
        <p:spPr>
          <a:xfrm>
            <a:off x="7020000" y="189000"/>
            <a:ext cx="1608120" cy="21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isie_2_n"/>
          <p:cNvPicPr/>
          <p:nvPr/>
        </p:nvPicPr>
        <p:blipFill>
          <a:blip r:embed="rId2"/>
          <a:stretch/>
        </p:blipFill>
        <p:spPr>
          <a:xfrm>
            <a:off x="118728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5" descr="neg.jpg"/>
          <p:cNvPicPr/>
          <p:nvPr/>
        </p:nvPicPr>
        <p:blipFill>
          <a:blip r:embed="rId3"/>
          <a:stretch/>
        </p:blipFill>
        <p:spPr>
          <a:xfrm>
            <a:off x="5580000" y="4508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groidní rasa se rozděluje na další skupiny, nejzajímavější jsou NILOTIDÉ(oblast Súdánu a Nilu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YGMEJOVÉ(původně oblasti v Africe rovníku, poté vytlače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ilotidé jsou nejtmavší a zároveň nejvyšší etnickou skupinu na světě( v průměru měří 180 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opak Pygmejové jsou nejmenšími lidmi na světě (130-135 cm), mají krátké nohy a dlouhé tělo. V oblastech, kde žijí jsou i trpasličí formy některých zvířat(sloni, antilopy, šimpanzi), je to přirozený důsledek adaptce na životní podmínky tropického pralesa. A další zajímavostí je, že pygmejské ženy jsou velmi vysoce plo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Arial"/>
              </a:rPr>
              <a:t>Míšenc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asné rasové složení světadílů je vzhledem k migracím obyvatelstva pestré.Výsledkem těchto migrací je míšení základních lidských ras a vznik      tzv. přechodných ras - míšenců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šence tvoří 30% světového obyvatelst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ul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říženec europoidní a ekvatoriální rasy - bělocha a černocha                                                          (V Afrika, S Amerika, Latinská Amer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sti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říženec europoidní rasy a mongoloidní rasy - indiána a bělocha                                                  (střední Asie, Latinská Amer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mb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říženec ekvatoriální rasy a mongoloidní rasy - indiána a černo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eo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říženec europoidní rasy a mongoloidní rasy - Španěla a indiá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08:56:29Z</dcterms:created>
  <dc:creator>Maky</dc:creator>
  <dc:description/>
  <dc:language>en-US</dc:language>
  <cp:lastModifiedBy>kavrik</cp:lastModifiedBy>
  <dcterms:modified xsi:type="dcterms:W3CDTF">2014-12-09T12:44:55Z</dcterms:modified>
  <cp:revision>18</cp:revision>
  <dc:subject/>
  <dc:title>Lidské</dc:title>
</cp:coreProperties>
</file>