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53BB-4293-43E6-89F4-E2A5635A2A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EF5E-BFA3-4879-98AF-F3E30855E02C}" type="slidenum">
              <a:rPr b="0" lang="cs-CZ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A361-AD58-4C81-8A9B-376C9DFF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3C19-80F2-4D18-BC97-8D9CE722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D73F-917A-42F1-8EC3-B8E0326A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0357-2C04-4B1E-8FE5-F63FF2C8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9450-D271-4009-8311-FF0A9BD8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C037-415D-4D56-816F-C26ECFC9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45E8-8F4A-4CBC-9EFF-4CC1A328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B916-853E-4AAD-82A2-04C379DB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8EA9-0DAD-4DC8-9B8F-A1FF9053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8C94-0E26-48BD-B9BD-BA815B53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1750-54BD-4498-AED4-6D4F3242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B3B9-B683-4945-A185-28609DB7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EF9D-927C-488A-BE4D-4067178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762F-CE74-488E-A0FF-035AE73A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319A-100D-4A00-817B-54264896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A31D-A928-405C-A8B1-6E61DCDD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2151-BD9D-4686-BAE6-50D360B3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552B-0B01-4A86-995D-D92E5912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08AB-EE99-4AFC-BA4F-50EFA8EB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E9CA-CBBE-43B9-8FAF-81C24DA6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101E-1BD8-45E5-BA21-D2FAC619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7BD7-F01E-48A5-833B-1343518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A84C-6A55-4422-9F25-40C75E65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B6B9-8304-4D10-8529-13F08FFF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5303-C773-4532-B00C-9E8B1CE74C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B730-900E-44F3-8BE4-8FC2BB9DD4C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Obrázek 3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761080" cy="1258920"/>
          </a:xfrm>
          <a:prstGeom prst="rect">
            <a:avLst/>
          </a:prstGeom>
          <a:ln w="0">
            <a:noFill/>
          </a:ln>
        </p:spPr>
      </p:pic>
      <p:sp>
        <p:nvSpPr>
          <p:cNvPr id="522" name="TextovéPole 4"/>
          <p:cNvSpPr/>
          <p:nvPr/>
        </p:nvSpPr>
        <p:spPr>
          <a:xfrm>
            <a:off x="900000" y="2060640"/>
            <a:ext cx="7353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52538"/>
                </a:solidFill>
                <a:latin typeface="Arial"/>
              </a:rPr>
              <a:t>Projekt CZ.1.07/1.1.10/03.00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52538"/>
                </a:solidFill>
                <a:latin typeface="Arial"/>
              </a:rPr>
              <a:t>Environmentální výchova ve školních úlohách, experimentech a exkurzí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00000"/>
                </a:solidFill>
                <a:latin typeface="Arial"/>
              </a:rPr>
              <a:t>Znečišťování vod a půd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 původců je první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doprav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druhá je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zemědělská výr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prava přispívá nepří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 přímému znečištění dochází při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dopravních nehodá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mezení můžeme snížit důkladnou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kontrolou vozidel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zábranam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odél komunikac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Obrázek 5" descr="kamion.jpg"/>
          <p:cNvPicPr/>
          <p:nvPr/>
        </p:nvPicPr>
        <p:blipFill>
          <a:blip r:embed="rId5"/>
          <a:stretch/>
        </p:blipFill>
        <p:spPr>
          <a:xfrm>
            <a:off x="6732720" y="1484280"/>
            <a:ext cx="2238120" cy="1676520"/>
          </a:xfrm>
          <a:prstGeom prst="rect">
            <a:avLst/>
          </a:prstGeom>
          <a:ln w="0">
            <a:noFill/>
          </a:ln>
        </p:spPr>
      </p:pic>
      <p:pic>
        <p:nvPicPr>
          <p:cNvPr id="554" name="Obrázek 6" descr="ropa.jpg"/>
          <p:cNvPicPr/>
          <p:nvPr/>
        </p:nvPicPr>
        <p:blipFill>
          <a:blip r:embed="rId6"/>
          <a:stretch/>
        </p:blipFill>
        <p:spPr>
          <a:xfrm>
            <a:off x="6357960" y="4437000"/>
            <a:ext cx="27860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00000"/>
                </a:solidFill>
                <a:latin typeface="Arial"/>
              </a:rPr>
              <a:t>PA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U neboli polycyklické aromatické uhlovodíky, občas nazývány P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Vznikají při spalovacích procesech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akýkoli materiálů obsahující uh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sou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toxické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řadu organismů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mohou způsobit rakovinu, mutace a     poruch reproduk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bře se vážou na sedimenty ve vodách, tím působí jako rezervoá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00000"/>
                </a:solidFill>
                <a:latin typeface="Arial"/>
              </a:rPr>
              <a:t>Letecká doprav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dukuje vodní páry, oxid uhličitý, oxid uhelnatý, oxidy dusíku, oxidy síry a těkavé lát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pomáhá ke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skleníkovému ef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bezpečné látky vznikají při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spalovacích procese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 motorech a uvolňují se do ovzduš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00000"/>
                </a:solidFill>
                <a:latin typeface="Arial"/>
              </a:rPr>
              <a:t>Přízemní ozon =</a:t>
            </a: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0" lang="cs-CZ" sz="44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za pomoci oxidů dusíku a těkavých látek ( VOX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kodí vegetaci—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zabraňuj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fotosyntéze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rostliny nemohou rů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dna ze složek fotochemického smog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ráždí dýchací ústrojí a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ižuje odolnost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ůči infekc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Obrázek 5" descr="zpravo1.gif"/>
          <p:cNvPicPr/>
          <p:nvPr/>
        </p:nvPicPr>
        <p:blipFill>
          <a:blip r:embed="rId6"/>
          <a:stretch/>
        </p:blipFill>
        <p:spPr>
          <a:xfrm>
            <a:off x="5796000" y="4505400"/>
            <a:ext cx="28573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00000"/>
                </a:solidFill>
                <a:latin typeface="Arial"/>
              </a:rPr>
              <a:t>Fotochemický smo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7640" y="1267920"/>
            <a:ext cx="69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skytuje se hlavně ve městech- více během letních měsí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vážně ho tvoří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přízemní ozo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směs uhlovodí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oxid siřičitý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oxidy uhlíku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CO, CO</a:t>
            </a:r>
            <a:r>
              <a:rPr b="0" lang="cs-CZ" sz="32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padem oxidů síry či dusíku pomocí světla, se za přítomnosti vody/vodní páry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áří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kyselina sírová a dusičn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Obrázek 3" descr="fotochemicky-smog.jpg"/>
          <p:cNvPicPr/>
          <p:nvPr/>
        </p:nvPicPr>
        <p:blipFill>
          <a:blip r:embed="rId4"/>
          <a:stretch/>
        </p:blipFill>
        <p:spPr>
          <a:xfrm>
            <a:off x="6524640" y="126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65" name="Obrázek 4" descr="image002(1).jpg"/>
          <p:cNvPicPr/>
          <p:nvPr/>
        </p:nvPicPr>
        <p:blipFill>
          <a:blip r:embed="rId5"/>
          <a:stretch/>
        </p:blipFill>
        <p:spPr>
          <a:xfrm>
            <a:off x="6732720" y="3933720"/>
            <a:ext cx="22888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Odkaz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autaveskole.jaknahmyz.cz/doprava_a_prostre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kolobka.netstranky.cz/doprava-a-environmen/nepriznive-vlivy-dop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ekopolis.cz/ekowiki/pojmy/vliv-dopravy-na-%C5%BEivotn%C3%AD-prost%C5%99ed%C3%AD.a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vitejtenazemi.cz/cenia/?p=vliv_dopravy_na_zivotni_prostredi&amp;site=dopr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dfdef6"/>
                </a:solidFill>
                <a:latin typeface="Arial"/>
              </a:rPr>
              <a:t>Doprava </a:t>
            </a:r>
            <a:br>
              <a:rPr sz="4800"/>
            </a:br>
            <a:r>
              <a:rPr b="0" lang="cs-CZ" sz="4800" spc="-1" strike="noStrike">
                <a:solidFill>
                  <a:srgbClr val="dfdef6"/>
                </a:solidFill>
                <a:latin typeface="Arial"/>
              </a:rPr>
              <a:t>a</a:t>
            </a:r>
            <a:br>
              <a:rPr sz="4800"/>
            </a:br>
            <a:r>
              <a:rPr b="0" lang="cs-CZ" sz="4800" spc="-1" strike="noStrike">
                <a:solidFill>
                  <a:srgbClr val="dfdef6"/>
                </a:solidFill>
                <a:latin typeface="Arial"/>
              </a:rPr>
              <a:t> vliv na životní prostředí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Matěj Bal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Tomáš Duro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Adéla Šulc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doprava"/>
          <p:cNvPicPr/>
          <p:nvPr/>
        </p:nvPicPr>
        <p:blipFill>
          <a:blip r:embed="rId1"/>
          <a:stretch/>
        </p:blipFill>
        <p:spPr>
          <a:xfrm>
            <a:off x="5076720" y="3500280"/>
            <a:ext cx="3619440" cy="3009960"/>
          </a:xfrm>
          <a:prstGeom prst="rect">
            <a:avLst/>
          </a:prstGeom>
          <a:ln w="0">
            <a:noFill/>
          </a:ln>
        </p:spPr>
      </p:pic>
      <p:pic>
        <p:nvPicPr>
          <p:cNvPr id="526" name="Obrázek 9" descr="doprava.jpg"/>
          <p:cNvPicPr/>
          <p:nvPr/>
        </p:nvPicPr>
        <p:blipFill>
          <a:blip r:embed="rId2"/>
          <a:stretch/>
        </p:blipFill>
        <p:spPr>
          <a:xfrm>
            <a:off x="250920" y="404640"/>
            <a:ext cx="1801800" cy="1079640"/>
          </a:xfrm>
          <a:prstGeom prst="rect">
            <a:avLst/>
          </a:prstGeom>
          <a:ln w="0">
            <a:noFill/>
          </a:ln>
        </p:spPr>
      </p:pic>
      <p:pic>
        <p:nvPicPr>
          <p:cNvPr id="527" name="Obrázek 10" descr="index.jpg"/>
          <p:cNvPicPr/>
          <p:nvPr/>
        </p:nvPicPr>
        <p:blipFill>
          <a:blip r:embed="rId3"/>
          <a:stretch/>
        </p:blipFill>
        <p:spPr>
          <a:xfrm>
            <a:off x="971640" y="24922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Doprav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lniční-automobily, motocykly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rolejbusy,a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Železniční-vlaky, metro, tramva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od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teck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5" descr="1000x1000-1328870322-trolejbus-s-evidencnim-cislem-02"/>
          <p:cNvPicPr/>
          <p:nvPr/>
        </p:nvPicPr>
        <p:blipFill>
          <a:blip r:embed="rId5"/>
          <a:stretch/>
        </p:blipFill>
        <p:spPr>
          <a:xfrm>
            <a:off x="611280" y="4292640"/>
            <a:ext cx="3784680" cy="21906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5" descr="letadlo"/>
          <p:cNvPicPr/>
          <p:nvPr/>
        </p:nvPicPr>
        <p:blipFill>
          <a:blip r:embed="rId6"/>
          <a:stretch/>
        </p:blipFill>
        <p:spPr>
          <a:xfrm>
            <a:off x="324000" y="260280"/>
            <a:ext cx="2916000" cy="132228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Zástupný symbol pro obsah 14" descr="costa concordia.jpg"/>
          <p:cNvPicPr/>
          <p:nvPr/>
        </p:nvPicPr>
        <p:blipFill>
          <a:blip r:embed="rId7"/>
          <a:stretch/>
        </p:blipFill>
        <p:spPr>
          <a:xfrm>
            <a:off x="5292720" y="3933720"/>
            <a:ext cx="3333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jedním z hlavních činitelů, který snižuje kvalitu životního prostřed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zi nejvýznamnější negativní dopady dopravy patří vypouštění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škodlivých lát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do ovzduší,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hluk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vibra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zároveň velmi náročná na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spotřeb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energetických surovin, zejména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rop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pravní cesty jsou překážkou pro živočichy při jejich pravidelných přesune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00000"/>
                </a:solidFill>
                <a:latin typeface="Arial"/>
              </a:rPr>
              <a:t>Znečištění ovzduš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prava se nejvíce podílí na vzniku emisí oxidu dusíku-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NO</a:t>
            </a:r>
            <a:r>
              <a:rPr b="0" lang="cs-CZ" sz="3200" spc="-1" strike="noStrike" baseline="-25000">
                <a:solidFill>
                  <a:srgbClr val="c00000"/>
                </a:solidFill>
                <a:latin typeface="Arial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, emisí oxidu uhelnatého-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CO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 P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e skleníkovému efektu přispívá oxid uhličitý-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CO</a:t>
            </a:r>
            <a:r>
              <a:rPr b="0" lang="cs-CZ" sz="32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oxid dusný-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0" lang="cs-CZ" sz="32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metan-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CH</a:t>
            </a:r>
            <a:r>
              <a:rPr b="0" lang="cs-CZ" sz="32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těkavé organické sloučeniny-např.: arsen-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A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benz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1,3-butadi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aké produkuje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keto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fenol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aldehy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6130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xidy dusíku No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způsobují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kyselé dešt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ěkteré látky také mají špatný vliv na člově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liv CO zpomaluje reflexy organizmů,</a:t>
            </a:r>
            <a:br>
              <a:rPr sz="3200"/>
            </a:b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váže se na krevní barvivo a tím zabraňuje přenosu kyslí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tomnost NO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snižuj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odolnost člověka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ůči virovým onemocněním či zápalu p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Obrázek 5" descr="obr15.jpg"/>
          <p:cNvPicPr/>
          <p:nvPr/>
        </p:nvPicPr>
        <p:blipFill>
          <a:blip r:embed="rId5"/>
          <a:stretch/>
        </p:blipFill>
        <p:spPr>
          <a:xfrm>
            <a:off x="6659640" y="404640"/>
            <a:ext cx="22860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00000"/>
                </a:solidFill>
                <a:latin typeface="Arial"/>
              </a:rPr>
              <a:t>Hlu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liv hluku závisí na jeho intenzitě, charakteru zvuku ( více působí přerušovaný ) a na době trvání hluk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 většinu lidí je už nepříjemný hluk nad 65 dB-vede ke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zvýšení krevního tlak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cévním a srdečním chorobám a vředovým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nemocnění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luk nad 85 dB může způsobovat už i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poruchy sluc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luk nad 100 dB může vést až k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vážném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poškození zdrav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00000"/>
                </a:solidFill>
                <a:latin typeface="Arial"/>
              </a:rPr>
              <a:t>Omezování migrace živočich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silnicích dochází k četným střetům aut s živočic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loty kolem dálnic brání tragickým nehodám a zabraňují přesunům zvěř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suny jsou často vrozené za potravou a kvůli reprodukci svého druh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 ochraně zvěří patří třeba zelené mosty přes siln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Obrázek 5" descr="zaba.jpg"/>
          <p:cNvPicPr/>
          <p:nvPr/>
        </p:nvPicPr>
        <p:blipFill>
          <a:blip r:embed="rId5"/>
          <a:stretch/>
        </p:blipFill>
        <p:spPr>
          <a:xfrm>
            <a:off x="6372360" y="505764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546" name="Obrázek 6" descr="ekodukt_lipnik_cr-nakladak_m.jpg"/>
          <p:cNvPicPr/>
          <p:nvPr/>
        </p:nvPicPr>
        <p:blipFill>
          <a:blip r:embed="rId6"/>
          <a:stretch/>
        </p:blipFill>
        <p:spPr>
          <a:xfrm>
            <a:off x="2987640" y="5070600"/>
            <a:ext cx="24480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00000"/>
                </a:solidFill>
                <a:latin typeface="Arial"/>
              </a:rPr>
              <a:t>Zábor územ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dnešní době vzrůstá počet dopravních prostředků a dopravních plo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ižuje množství pěstované zeleně a tím i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zachycov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zpracování oxidu uhličitého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stlina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Obrázek 6" descr="518528.jpg"/>
          <p:cNvPicPr/>
          <p:nvPr/>
        </p:nvPicPr>
        <p:blipFill>
          <a:blip r:embed="rId3"/>
          <a:stretch/>
        </p:blipFill>
        <p:spPr>
          <a:xfrm>
            <a:off x="324000" y="4221000"/>
            <a:ext cx="4444920" cy="2505240"/>
          </a:xfrm>
          <a:prstGeom prst="rect">
            <a:avLst/>
          </a:prstGeom>
          <a:ln w="0">
            <a:noFill/>
          </a:ln>
        </p:spPr>
      </p:pic>
      <p:pic>
        <p:nvPicPr>
          <p:cNvPr id="550" name="Obrázek 8" descr="JB355d65_25.8._Prazsky_okruh_4.jpg"/>
          <p:cNvPicPr/>
          <p:nvPr/>
        </p:nvPicPr>
        <p:blipFill>
          <a:blip r:embed="rId4"/>
          <a:stretch/>
        </p:blipFill>
        <p:spPr>
          <a:xfrm>
            <a:off x="5364000" y="4076640"/>
            <a:ext cx="30718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3:23:34Z</dcterms:created>
  <dc:creator>ZSHLINECKA1</dc:creator>
  <dc:description/>
  <dc:language>en-US</dc:language>
  <cp:lastModifiedBy>kavrik</cp:lastModifiedBy>
  <dcterms:modified xsi:type="dcterms:W3CDTF">2014-12-09T12:42:25Z</dcterms:modified>
  <cp:revision>12</cp:revision>
  <dc:subject/>
  <dc:title>Doprava  a  vliv na životní prostředí</dc:title>
</cp:coreProperties>
</file>