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8DFA-84E2-45CC-8C69-DA8C5DC9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1274-02CB-45E3-B173-4AD9102D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27D1-5F9C-40D4-B6C4-809E594F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6E7-37B3-43A2-90FA-0D0376B1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331-F860-40E1-893C-A0747D71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D4A-9891-43A4-8051-6065555E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5E7-E380-432D-A3B8-6A25B97A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CB36-49AD-4CCB-A8DB-00E71365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854-E50E-450F-896A-E6F165D3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F3C-BB20-4BD1-AF73-18471DCA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2BB3-DCD8-4D69-A224-93968FD3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382E-8383-40EC-AB22-CCFF21DF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F099-7A24-43CC-9994-ED5DAD6BD48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3" descr=""/>
          <p:cNvPicPr/>
          <p:nvPr/>
        </p:nvPicPr>
        <p:blipFill>
          <a:blip r:embed="rId1"/>
          <a:stretch/>
        </p:blipFill>
        <p:spPr>
          <a:xfrm>
            <a:off x="2016000" y="611280"/>
            <a:ext cx="5761080" cy="1258920"/>
          </a:xfrm>
          <a:prstGeom prst="rect">
            <a:avLst/>
          </a:prstGeom>
          <a:ln w="0">
            <a:noFill/>
          </a:ln>
        </p:spPr>
      </p:pic>
      <p:sp>
        <p:nvSpPr>
          <p:cNvPr id="42" name="TextovéPole 2"/>
          <p:cNvSpPr/>
          <p:nvPr/>
        </p:nvSpPr>
        <p:spPr>
          <a:xfrm>
            <a:off x="1363680" y="2895480"/>
            <a:ext cx="735336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  <a:ea typeface="Arial Unicode MS"/>
              </a:rPr>
              <a:t>Projekt CZ.1.07/1.1.10/03.000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  <a:ea typeface="Arial Unicode MS"/>
              </a:rPr>
              <a:t>Environmentální výchova ve školních úlohách, experimentech a exkurzí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Narození/Úmrt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4952880" y="3276720"/>
            <a:ext cx="3353040" cy="281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3362040" cy="2809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1127880" y="25560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vojov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791320" y="25909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vinu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910800" y="457200"/>
            <a:ext cx="289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zelená - rozvinuté stá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červená - rozvojové stá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žlutá - něco mezi oběma typ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239440" y="419040"/>
            <a:ext cx="33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Největší příbytek je v rozvojový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tátech, převážně v </a:t>
            </a:r>
            <a:r>
              <a:rPr b="0" lang="cs-CZ" sz="1800" spc="-1" strike="noStrike">
                <a:solidFill>
                  <a:srgbClr val="ffcc00"/>
                </a:solidFill>
                <a:latin typeface="Times New Roman"/>
              </a:rPr>
              <a:t>Africe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, avšak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nejobydlenějším kontinentem 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00"/>
                </a:solidFill>
                <a:latin typeface="Times New Roman"/>
              </a:rPr>
              <a:t>As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Čím je to způsoben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nohonásobně se zlepšilo zdravotnictv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íky investicím do výzkumu se život celkově zlepšil ve všech částech světa tzn. lidé si mohou dovolit mít dě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elkové bezpečí způsobené změnami ve společnosti - zákony, pořádkové jednotky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lepšila se zemědělská produk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Řeš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mezení počtu dětí (Čína - politika 1 dítě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ddálení prvního poro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šiřování informovanosti o problematice přelidně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ddálení  věku svat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rozšiřování antikoncep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dměny za steril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uty za vysoký počet dět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igr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yl to jedním z řešení lidských problém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migrace do Ameriky, Austrál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nes již není na Zemi místo, kam by bylo možné emigrov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važuje se o obydlení jiných planet, mořského dna, vesmírných stanic..., ale nelze předpokládat že se tam přesune 80 milionů lidí kteří ročně přibývaj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TO NENÍ ŘEŠENÍM PROBLÉM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LIDNĚNÍ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inulost a budouc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k 1500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0.5 milionů lid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k 1800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miliarda lid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k 1925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 miliardy lid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k 1960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 miliardy lid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k 1975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4 miliardy lid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k 1989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5 miliard lid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k 2000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6 miliard lid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k 2013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7 miliard lid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dle předpokládaného vývoje bude v roce 2050 již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9 400 000 000 LID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TÁZKY K PREZENTA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TÁZKY K PREZENT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Na jakém kontinentu je nejvyšší přírůstek obyvat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) Které tři státy patří mezi rozvinuté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) Jak bys krátce definoval/a pojem přelidnění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) Co je to příbytek?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) Uveď jeden způsob jak se lidé snaží omezit nárůst obyvat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) Uveď jeden důvod proč začal rapidně narůstat počet obyvatel Země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) Jaký je rozdíl mezi rozvinutými a rozvojovými stá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) Co je to natali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) Proč je nárůst obyvatel problé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) Pomohla by v tomto případě migr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ELIDNĚ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m Hulm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022280" y="4610160"/>
            <a:ext cx="144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Jakub Pink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Jakub Poníž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Matěj Em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Jak to definuje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09480" y="2971800"/>
            <a:ext cx="83822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elidnění je stav, kdy prostředí neposkytuje dostatek zdrojů pro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    obživu popu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!!!    ( DNES JE TO GLOBÁLNÍ PROBLÉM ČÍSLO 1 ) !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ozdí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bytek - počítá se kolik lidí se narodí a zemře tzn.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 kolik se zvýší bilance obyva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rození - počítá se kolik lidí se narod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natali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Aktuální st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aždou sekundu na Zemi přibudou 3 lid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stcman"/>
          <p:cNvPicPr/>
          <p:nvPr/>
        </p:nvPicPr>
        <p:blipFill>
          <a:blip r:embed="rId1"/>
          <a:stretch/>
        </p:blipFill>
        <p:spPr>
          <a:xfrm>
            <a:off x="1295280" y="3002040"/>
            <a:ext cx="2819520" cy="220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stcman"/>
          <p:cNvPicPr/>
          <p:nvPr/>
        </p:nvPicPr>
        <p:blipFill>
          <a:blip r:embed="rId2"/>
          <a:stretch/>
        </p:blipFill>
        <p:spPr>
          <a:xfrm>
            <a:off x="4114800" y="3429000"/>
            <a:ext cx="2514600" cy="196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stcman"/>
          <p:cNvPicPr/>
          <p:nvPr/>
        </p:nvPicPr>
        <p:blipFill>
          <a:blip r:embed="rId3"/>
          <a:stretch/>
        </p:blipFill>
        <p:spPr>
          <a:xfrm>
            <a:off x="6248520" y="3352680"/>
            <a:ext cx="24382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aždou hodinou to je 10 800 lid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0" y="2819520"/>
          <a:ext cx="9144000" cy="21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19520"/>
                    <a:ext cx="91440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5"/>
          <p:cNvGraphicFramePr/>
          <p:nvPr/>
        </p:nvGraphicFramePr>
        <p:xfrm>
          <a:off x="0" y="4876920"/>
          <a:ext cx="9144000" cy="21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876920"/>
                    <a:ext cx="91440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 den to je zhruba 259 200 lid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0" y="2438280"/>
          <a:ext cx="4191120" cy="20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38280"/>
                    <a:ext cx="419112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5"/>
          <p:cNvGraphicFramePr/>
          <p:nvPr/>
        </p:nvGraphicFramePr>
        <p:xfrm>
          <a:off x="4191120" y="2514600"/>
          <a:ext cx="4952880" cy="200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514600"/>
                    <a:ext cx="495288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6"/>
          <p:cNvGraphicFramePr/>
          <p:nvPr/>
        </p:nvGraphicFramePr>
        <p:xfrm>
          <a:off x="0" y="4572000"/>
          <a:ext cx="426708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572000"/>
                    <a:ext cx="4267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7"/>
          <p:cNvGraphicFramePr/>
          <p:nvPr/>
        </p:nvGraphicFramePr>
        <p:xfrm>
          <a:off x="3809880" y="4419720"/>
          <a:ext cx="5334120" cy="263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4419720"/>
                    <a:ext cx="533412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Graf růstu obyva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4860000" y="262908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tuální situ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897120" y="300996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idí v milione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ozvojové vs. Rozvinu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ezi rozvojovými a rozvinutými státy je velký rozdíl jak v kultuře, politice i v ekonomických možnostech st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ostalejší - rozvojové - hlavní problém přelidně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ohatší - rozvinuté -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ětší vliv, lepší finanční možnosti (EU, USA, Japonsk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4T20:04:20Z</dcterms:created>
  <dc:creator>Hulmákovi</dc:creator>
  <dc:description/>
  <dc:language>en-US</dc:language>
  <cp:lastModifiedBy>kavrik</cp:lastModifiedBy>
  <dcterms:modified xsi:type="dcterms:W3CDTF">2016-04-08T11:21:47Z</dcterms:modified>
  <cp:revision>17</cp:revision>
  <dc:subject/>
  <dc:title>PŘELIDNĚNÍ</dc:title>
</cp:coreProperties>
</file>