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8A4-DA43-4E6B-ACF6-EF28314F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08C-AEF2-4166-BB94-93F3BA53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F50-EA3F-49EB-B6AE-FAFA97F8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D6C-90F1-4CBC-ADD6-BE0F275E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449-37BD-4152-B644-9686D217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F91-D409-4DE1-B900-B61411B9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923-9472-4D1B-9913-0F8A0A45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015-C051-45C3-891E-139A7E02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712-2A93-4D53-B2B6-8FE771F4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FFE-1DDE-42DB-AF52-E38B0C9E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8B7-B98B-4FD9-BDD0-E7EAA809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038-168B-48F5-B023-C86482DB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83AB-C63C-46C2-B2BC-772916CF99A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3" descr=""/>
          <p:cNvPicPr/>
          <p:nvPr/>
        </p:nvPicPr>
        <p:blipFill>
          <a:blip r:embed="rId1"/>
          <a:stretch/>
        </p:blipFill>
        <p:spPr>
          <a:xfrm>
            <a:off x="2016000" y="611280"/>
            <a:ext cx="5761080" cy="1258920"/>
          </a:xfrm>
          <a:prstGeom prst="rect">
            <a:avLst/>
          </a:prstGeom>
          <a:ln w="0">
            <a:noFill/>
          </a:ln>
        </p:spPr>
      </p:pic>
      <p:sp>
        <p:nvSpPr>
          <p:cNvPr id="42" name="TextovéPole 2"/>
          <p:cNvSpPr/>
          <p:nvPr/>
        </p:nvSpPr>
        <p:spPr>
          <a:xfrm>
            <a:off x="1363680" y="2895480"/>
            <a:ext cx="735336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Projekt CZ.1.07/1.1.10/03.0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Environmentální výchova ve školních úlohách, experimentech a exkur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itná v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3680" y="1599840"/>
            <a:ext cx="822312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ále ubývající surov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nečišťování řek vede taktéž k úbytku pitné v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émy nejsou jen v Africe, ale i v jiných zemí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etřete s vodou a nijak ji neznečišťujte abychom měli co pít a následně i vaše dě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Arial"/>
                <a:ea typeface="굴림"/>
              </a:rPr>
              <a:t>Otáz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2600" y="1309320"/>
            <a:ext cx="87566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. Kolik procent povrchu Země zabírají moře a oceá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Kolik procent světové sladké vody je v ledovcí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. Vysvětlete princip získávání pitné vody pomocí odsolování mořské v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4. Ve které zemi j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굴림"/>
              </a:rPr>
              <a:t>ž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obyvatelé získávají část pitné vody fiiltrováním moč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5. Vyjmenuj alespoň 2 onemocnění související se špatnou kvalitou pitné v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 Proč dehydrovaní lidé častěji umírají na malár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7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굴림"/>
              </a:rPr>
              <a:t>Vyjmenujte některé hlavní projevy dehydra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8. Popište koloběh vody v přírod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9. Napadá vás nějaký způsob kterým dochází ke znečisťování pitné v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0. Kolik procent vody na Zemi je sla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www.komenskeho66.cz/materialy/zemepis/obrazky/zeme3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www.rozvojovka.cz/download/img/3041.j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www.rozvojovka.cz/download/pdf/pdfs_369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cs.wikipedia.org/wiki/Hydrosf%C3%A9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home.tiscali.cz/chemie/voda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www.vodarenstvi.cz/clanky/svet-trapi-nedostatek-vody-budeme-mit-vlastni-m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ém s vodou na svě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7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Karel Doubek,Yan Brossau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Vojtěch Rozhoň,Vladimír Chlo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Prezentace na Den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é jsou problémy s vodou na zem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mě se nazývá modrá planeta tzn. z vesmíru jsou vidět hlavně modré vodní plochy. Oceány a moře zaberou 71 % zemského povrch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vody co je celkem na zemi je cca 97 % slané vody, 3 % sladké  (pitné) vody co je poživatelné a z těchto 3% je většina (68,4 %) vody v ledovcích -&gt; Vody je sice na zemi mnoho, ale sladké (pitné) vody je málo pro populaci na Ze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Zeme3"/>
          <p:cNvPicPr/>
          <p:nvPr/>
        </p:nvPicPr>
        <p:blipFill>
          <a:blip r:embed="rId1"/>
          <a:stretch/>
        </p:blipFill>
        <p:spPr>
          <a:xfrm>
            <a:off x="3522600" y="4508640"/>
            <a:ext cx="21178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dy je mál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0760" y="15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íklad lidé v Africe umírají na hlad a na žízeň -&gt; Nedostatek potravin a vody v Af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frika"/>
          <p:cNvPicPr/>
          <p:nvPr/>
        </p:nvPicPr>
        <p:blipFill>
          <a:blip r:embed="rId1"/>
          <a:stretch/>
        </p:blipFill>
        <p:spPr>
          <a:xfrm>
            <a:off x="2343240" y="2870280"/>
            <a:ext cx="57610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proto má voda někde i hodnotu zlat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00000" y="2276640"/>
            <a:ext cx="7128000" cy="15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íklad v Keni je pro obyvatele téměř nemožné ušetřit peníze, když mají stěží na vod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se tento problém řeš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římořských zemích s velmi teplým podnebím (např. v Kuvajtu, Saúdské Arábii) se pitná voda získává odsolováním mořské v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odsolovani"/>
          <p:cNvPicPr/>
          <p:nvPr/>
        </p:nvPicPr>
        <p:blipFill>
          <a:blip r:embed="rId1"/>
          <a:stretch/>
        </p:blipFill>
        <p:spPr>
          <a:xfrm>
            <a:off x="3949560" y="3421080"/>
            <a:ext cx="43783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se tento problém řeš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stronauté NASA a obyvatelé Kalifornie již filtrují svou vlastní moč, aby měli ve vesmíru (astronauti) a na Zemi (Kalifornie) alespoň co pít. Předpokládáme, že se tato technologie postupně rozšíří až bude stav vody kriticky nízk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187280" y="1844640"/>
            <a:ext cx="669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čně na následky průjmových onemocnění, jako jsou například cholera,tyfus či úplavice, umírá více než 1,8 milionu dě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to číslo je dokonce vyšší než počet úmrtí na následky HIV, AIDS a malárie dohromady. Pro srovnání, každý rok zemře 1,3 milionu lidí na malárii, 90 % z nich jsou děti mladší pěti l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nedostatku pitné vody klesá fyzická a duševní výkonnost, může dojít k dezorientaci a dlouhodobá dehydratace může vést ke ztrátě vědomí a následné smrti žíz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332000" y="765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sledky nedostatku pitné v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loběh 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ivem slunce se voda z moře vypařuje a pak se mraky (voda v plynném skupenstvím) přesunou a vyprší. V koloběhu se vypaří voda, ale pouze sladká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ůl se nevypařuje tzn. další pitná voda na ze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kolobeh"/>
          <p:cNvPicPr/>
          <p:nvPr/>
        </p:nvPicPr>
        <p:blipFill>
          <a:blip r:embed="rId1"/>
          <a:stretch/>
        </p:blipFill>
        <p:spPr>
          <a:xfrm>
            <a:off x="2249640" y="4227480"/>
            <a:ext cx="5037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12:50:20Z</dcterms:created>
  <dc:creator>kareldoubek1@gmail.com</dc:creator>
  <dc:description/>
  <dc:language>en-US</dc:language>
  <cp:lastModifiedBy>kavrik</cp:lastModifiedBy>
  <dcterms:modified xsi:type="dcterms:W3CDTF">2016-04-08T11:21:28Z</dcterms:modified>
  <cp:revision>5</cp:revision>
  <dc:subject/>
  <dc:title>Probl?m s vodou na sv?t?</dc:title>
</cp:coreProperties>
</file>