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8450-9C9B-4D80-BA9E-F86778D4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9A51-F7FB-4E0D-8BFD-0CB598E2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F8EA-AD1D-4B9B-8762-CF865AAA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BAE8-1EFC-40BC-BE10-5CFF943D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283B-4019-4DB3-8B31-BD441479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5E2D-6780-4A4F-8623-F3BA7303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D42B-AE81-431F-BF63-2F7CFB87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2028-C2C8-455B-BB04-D199929F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6E58-0E3D-4DBA-AE73-6ADBEA44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FCA7-1436-4A05-A630-6FD2BCEE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E7D8-3071-465B-8253-2518A4DD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5E4E-5D1A-4392-8A8D-B9E5F13B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5DA6-F99B-4271-8E2C-7C30F5383D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3" descr=""/>
          <p:cNvPicPr/>
          <p:nvPr/>
        </p:nvPicPr>
        <p:blipFill>
          <a:blip r:embed="rId1"/>
          <a:stretch/>
        </p:blipFill>
        <p:spPr>
          <a:xfrm>
            <a:off x="2016000" y="611280"/>
            <a:ext cx="5761080" cy="1258920"/>
          </a:xfrm>
          <a:prstGeom prst="rect">
            <a:avLst/>
          </a:prstGeom>
          <a:ln w="0">
            <a:noFill/>
          </a:ln>
        </p:spPr>
      </p:pic>
      <p:sp>
        <p:nvSpPr>
          <p:cNvPr id="42" name="TextovéPole 2"/>
          <p:cNvSpPr/>
          <p:nvPr/>
        </p:nvSpPr>
        <p:spPr>
          <a:xfrm>
            <a:off x="1363680" y="2895480"/>
            <a:ext cx="7353360" cy="34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Projekt CZ.1.07/1.1.10/03.0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Environmentální výchova ve školních úlohách, experimentech a exkurzí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21stoleti.cz/wp-content/uploads/global-warming-2-486x301.jpg"/>
          <p:cNvPicPr/>
          <p:nvPr/>
        </p:nvPicPr>
        <p:blipFill>
          <a:blip r:embed="rId1"/>
          <a:stretch/>
        </p:blipFill>
        <p:spPr>
          <a:xfrm>
            <a:off x="468360" y="1268280"/>
            <a:ext cx="823284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620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horský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- menší rozměry, vytváří kar + splaz + morény, ve vyšších nadmořských výškách (např.: Alp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oko.yin.cz/33/ledovec/horsky/horsky-ledovec.jpg"/>
          <p:cNvPicPr/>
          <p:nvPr/>
        </p:nvPicPr>
        <p:blipFill>
          <a:blip r:embed="rId1"/>
          <a:stretch/>
        </p:blipFill>
        <p:spPr>
          <a:xfrm>
            <a:off x="1476360" y="2349360"/>
            <a:ext cx="61200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ůsledky tání alpských ledovc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mezení provozu zimních sport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výšení rizika sesuvu půdy a kam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plav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utná ochrana obyvatel v horských údolí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www.globalni-ochlazovani.cz/foto/ledovec-vernagtferner.jpg"/>
          <p:cNvPicPr/>
          <p:nvPr/>
        </p:nvPicPr>
        <p:blipFill>
          <a:blip r:embed="rId1"/>
          <a:stretch/>
        </p:blipFill>
        <p:spPr>
          <a:xfrm>
            <a:off x="2050920" y="114480"/>
            <a:ext cx="5148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ttp://www.globalni-ochlazovani.cz/tani-ledovcu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ttp://petrova.blog.idnes.cz/c/104437/Vaclav-Klaus-tani-ledovcu-a-cihajici-propaganda-NASA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ttp://zpravy.aktualne.cz/zahranici/tani-ledovcu-prinese-evrope-extremni-zimy/r~i:article:758036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ttp://www.tyden.cz/rubriky/relax/zvirata/preziji-ledni-medvedi-rok-2100-hrozi-jim-vyhynuti_327573.html#.VRxQHna4Q6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ttp://gnosis9.net/view.php?cisloclanku=2007020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TÁZK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menuj, co nejvíce rozdílů mezi horským a pevninským ledovc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aké jsou hlavní důvody tání ledovců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ak vypadala Arktida před 55 miliony lety? Co zde žil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aké jsou důsledky tání arktického ledovce? Jmenuj alespoň 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aké jsou důsledky tání alpských ledovců? Jmenuj alespoň 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aké dopady má tání arktického ledovce na lední medvědy? Alespoň 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de se nacházejí největší pevninské ledov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 kolik cm může stoupnout hladina mořské vody táním arktického ledovc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dy přibližně arktický ledovec roztaj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 kolik přibližně stupňů Celsia se na Arktidě zvýší do roku 2100 teplo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Nadpis 1"/>
          <p:cNvGrpSpPr/>
          <p:nvPr/>
        </p:nvGrpSpPr>
        <p:grpSpPr>
          <a:xfrm>
            <a:off x="628560" y="444600"/>
            <a:ext cx="7882200" cy="1579320"/>
            <a:chOff x="628560" y="444600"/>
            <a:chExt cx="7882200" cy="1579320"/>
          </a:xfrm>
        </p:grpSpPr>
        <p:pic>
          <p:nvPicPr>
            <p:cNvPr id="44" name="Nadpis 1" descr=""/>
            <p:cNvPicPr/>
            <p:nvPr/>
          </p:nvPicPr>
          <p:blipFill>
            <a:blip r:embed="rId1"/>
            <a:stretch/>
          </p:blipFill>
          <p:spPr>
            <a:xfrm>
              <a:off x="628560" y="444600"/>
              <a:ext cx="7882200" cy="15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84360" y="47628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800" spc="-1" strike="noStrike">
                  <a:solidFill>
                    <a:srgbClr val="ffffff"/>
                  </a:solidFill>
                  <a:latin typeface="Comic Sans MS"/>
                </a:rPr>
                <a:t>Ubývání ledovců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2" descr="http://www.meteocentrum.cz/images/zpravy/003.jpg"/>
          <p:cNvPicPr/>
          <p:nvPr/>
        </p:nvPicPr>
        <p:blipFill>
          <a:blip r:embed="rId2"/>
          <a:stretch/>
        </p:blipFill>
        <p:spPr>
          <a:xfrm>
            <a:off x="1116000" y="2205000"/>
            <a:ext cx="6875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ůvody ubývání ledovc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chod klimatu z chladné do teplejší fá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cdn.i0.cz/public-data/65/60/2063d6213343bae7b99c194604c0_r16:9_w480_h270_gi:photo:91415.jpg?hash=395e70b40cc4f563b25a35b56e7c773c"/>
          <p:cNvPicPr/>
          <p:nvPr/>
        </p:nvPicPr>
        <p:blipFill>
          <a:blip r:embed="rId1"/>
          <a:stretch/>
        </p:blipFill>
        <p:spPr>
          <a:xfrm>
            <a:off x="1187280" y="2349360"/>
            <a:ext cx="676944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620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dměrná produkce CO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alováním fosilních paliv (nepotvrzen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azování tmavých prachových částic produkovaných průmyslem na povrchu ledovců (tmavší ledovec taje rychleji, protože pohlcuje více tepla dopadajícího na jeho povr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krasnesvetlo.cz/wp-content/uploads/2013/09/Island_Ledovec_Jokullsarlon_100903_103.jpg"/>
          <p:cNvPicPr/>
          <p:nvPr/>
        </p:nvPicPr>
        <p:blipFill>
          <a:blip r:embed="rId1"/>
          <a:stretch/>
        </p:blipFill>
        <p:spPr>
          <a:xfrm>
            <a:off x="2195640" y="3718080"/>
            <a:ext cx="453708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edov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evninský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- obrovské rozměry, na plochém terénu, Antarktida + Grónsk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1.bp.blogspot.com/-TqXlE1FDVrY/T1pVVf8dJyI/AAAAAAAABAs/6nlsNABTy2k/s1600/glaciar_perito_moreno-11.jpg"/>
          <p:cNvPicPr/>
          <p:nvPr/>
        </p:nvPicPr>
        <p:blipFill>
          <a:blip r:embed="rId1"/>
          <a:stretch/>
        </p:blipFill>
        <p:spPr>
          <a:xfrm>
            <a:off x="1187280" y="2708280"/>
            <a:ext cx="6858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ůsledky tání arktického ledov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pětné urychlení globálního otepl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ilné mořské bou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razivé zimy v Evrop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taje cca v roce 20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celého ekosystému v oblasti Severního ledového oceá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led1979.jpg"/>
          <p:cNvPicPr/>
          <p:nvPr/>
        </p:nvPicPr>
        <p:blipFill>
          <a:blip r:embed="rId1"/>
          <a:stretch/>
        </p:blipFill>
        <p:spPr>
          <a:xfrm>
            <a:off x="0" y="0"/>
            <a:ext cx="5162400" cy="371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led2003.jpg"/>
          <p:cNvPicPr/>
          <p:nvPr/>
        </p:nvPicPr>
        <p:blipFill>
          <a:blip r:embed="rId2"/>
          <a:stretch/>
        </p:blipFill>
        <p:spPr>
          <a:xfrm>
            <a:off x="4081320" y="3213000"/>
            <a:ext cx="50626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oto: Reuters"/>
          <p:cNvPicPr/>
          <p:nvPr/>
        </p:nvPicPr>
        <p:blipFill>
          <a:blip r:embed="rId1"/>
          <a:stretch/>
        </p:blipFill>
        <p:spPr>
          <a:xfrm>
            <a:off x="1763640" y="-25560"/>
            <a:ext cx="57610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 bude s ledními medvěd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způsobili by se, ale mají málo čas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ůli úbytku ledu a sněhu nebude dostatek potravy (tulen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amice se proto nebudou chtít pářit nebo zhynou s mláďa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kládané vymření druhu - do r. 2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statní zvířata - přizpůsobení (je to pro ně jednodušš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1T19:20:45Z</dcterms:created>
  <dc:creator>Lucka</dc:creator>
  <dc:description/>
  <dc:language>en-US</dc:language>
  <cp:lastModifiedBy>kavrik</cp:lastModifiedBy>
  <dcterms:modified xsi:type="dcterms:W3CDTF">2016-04-08T11:22:18Z</dcterms:modified>
  <cp:revision>10</cp:revision>
  <dc:subject/>
  <dc:title>Ubývání ledovců</dc:title>
</cp:coreProperties>
</file>